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B9C0-02B0-478A-8682-369191122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390D-E564-49F7-9509-74EB7788C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3280-7544-4228-9337-EA68BE376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64D3-59CC-4799-B9A9-383474CC8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8423E-D931-4BE1-9DD0-6D54A595F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22CCF-540C-4DB8-9C0F-DDEB83D57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71FDB-79A9-48A8-956C-7E3568555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6D946-76D5-494F-A864-4EE251A7C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7EF32-EA52-405A-AF83-46A203C56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B9400-435D-4D8D-BB89-10C163A08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6D21C-878A-4BDB-94C4-6AA9A7E64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77E8-6360-40C4-A01F-1D22CF086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8F7BD-6361-4D0F-AA78-DF3E82BAD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74BB7-33B6-4A85-B5B8-11E752A7C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96141-73DC-472F-B483-4F4B2A85C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061E8-5169-4A68-8772-F0956C6CF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EF011-6B3E-4623-B1A2-0BD6508A9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DB42-AB41-4486-8F8E-90C5385E3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580F-27EB-499E-B605-ADE3D0CA7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D049-E0A3-4063-8669-744495705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AD41-9B0C-460C-B1E8-922243E72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EAE9-6D54-4E03-99F8-BDBC41051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1A3C-B633-44F6-9647-9B53A094A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F74D-B0DD-46B2-A2C5-D541C5D94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EAC84-5ACC-4D56-A4DB-E59A70167FD7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168D1-2189-4CDE-87A8-AC613A436F25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uk.youtube.com/watch?v=37ssHa0Vqwg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bbc.co.uk/radio4/womanshour/05/2008_28_wed.shtml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Learning English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Session 3 How do people learn other languages?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ask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ook at different types of language learning material and try to classify them according to pedagogy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ich material do you like best? Why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ood language learner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at helps language learning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telligen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ptitud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ersonalit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otiva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ttitud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earner preferenc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earner belief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h yeah bab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seems to be the underlying theory of language acquisition applied by this auntie?</a:t>
            </a:r>
            <a:br>
              <a:rPr sz="2800"/>
            </a:b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http://uk.youtube.com/watch?v=37ssHa0Vqw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omen’s Hou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isten to the recording and answer the following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at is the job of person being interviewed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y is she at the Sure Start centre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ich of the theories of language acquisition does she seem to favour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at do the young mums learn?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http://www.bbc.co.uk/radio4/womanshour/05/2008_28_wed.shtm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heories of second language acquisitio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Behaviouris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Innatism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Information Processing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Interactionis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ehaviourism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ave rise to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Listen and repe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Drilling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Target language inpu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Focus on pronunci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Language laboratori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Innatism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Gave rise to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cccc"/>
                </a:solidFill>
                <a:latin typeface="Arial"/>
              </a:rPr>
              <a:t>Krashen’s highly influential theories of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cccc"/>
                </a:solidFill>
                <a:latin typeface="Arial"/>
              </a:rPr>
              <a:t>acquisition vs. learn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cccc"/>
                </a:solidFill>
                <a:latin typeface="Arial"/>
              </a:rPr>
              <a:t>input hypothesi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cccc"/>
                </a:solidFill>
                <a:latin typeface="Arial"/>
              </a:rPr>
              <a:t>affective filter hypothesi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cccc"/>
                </a:solidFill>
                <a:latin typeface="Arial"/>
              </a:rPr>
              <a:t>natural order hypothesi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cccc"/>
                </a:solidFill>
                <a:latin typeface="Arial"/>
              </a:rPr>
              <a:t>monitor hypothesi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gnitive Process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ave rise to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Noticing’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Practice’ as in learners working hard to understand how the language work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Interactionism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cccc"/>
                </a:solidFill>
                <a:latin typeface="Arial"/>
              </a:rPr>
              <a:t>Modified interaction (e.g. clarification requests, comprehension checks, repetition/paraphrase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cccc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33cccc"/>
                </a:solidFill>
                <a:latin typeface="Arial"/>
              </a:rPr>
              <a:t>Scaffolding’ (after Vygotsky)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Pedagogies of second language teaching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Audiolingualis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otal immersion and content teaching (Suggestopedia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ask-based learn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Communicative language learn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(Grammar Translation still followed in many places!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SA</cp:lastModifiedBy>
  <dcterms:modified xsi:type="dcterms:W3CDTF">2008-10-17T11:48:45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